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7884B-7617-49A1-99D0-35F3D6E00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08B9C-B450-4A30-A6CC-20BAD5C25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B88DA-8E78-40F8-BFA3-D5A339F76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B87B4-85C1-49F6-8700-BF245A9DD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863D5-D354-41EC-B3FC-8B25D5CE4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5F73A-4426-4080-89C2-A1DDE0625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2F6EB-D6AC-4BC1-A429-6CB60C918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AE2F9-5135-426B-81E3-7F7AA1881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94717-182F-46D5-AF1E-22B0083CA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B462F-AA1C-4BC7-98CB-B3CDB638B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B7CE0-8922-4E44-90CD-924BBAEAF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8CC36-F89E-4C71-84C9-AC2D11349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85E0C-F054-46BE-9B2C-9913FB5AD598}"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How To Lear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533160" y="3228480"/>
            <a:ext cx="785484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eparation Phase – Getting Star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room Con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a good teach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nctu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m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iendl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ganiz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listen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racteristics of a good lear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edi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oper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quis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e in clas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alogi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acher can also use analogies with students to explain the roles of teacher and students in the learning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acher can guide, facilitate, present materials clearly, answer questions, model and provide some practice opportunities, but the teacher cannot learn the language for students or even make students learn the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must decide themselves th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want to learn, and</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need to take initiative for seeking opportunities for learning, e.g. a soccer team or a theatrical pl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 Reflection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earner-centred classroom requires students’ awareness of their learning proces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students to reflect on the components involved in language acquisition so they realize what they need to do to learn the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nk of a time when you were learning a new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call some of the learning activities that you found help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id you find most difficult about learning a new langu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lf-Reflections on Language Learning</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How do you like to learn a langu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What do you like best: reading, listening, writing or speaking?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What do you like least: reading, listening, writing or speaking?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How is learning a language is similar to and different from learning in other subje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ersonal language goal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rucial step toward a learner-centred classroom is getting students involved in learning by having them set language goals for themselv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 setting is a strategy that needs to be taught to studen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als can be either long- or short-ter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rt-term goals are used as enabling steps toward long-term goal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im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rease students’ involvement by increasing the stake they have in the learning proces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ive students the opportunity to establish their own goals, in addition to or in collaboration with those set by the instructional progra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ow students to reflect their reasons for learning a Second Language (SL), which may in turn lead to increased motivatio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ing the learner-centred classroom</a:t>
            </a: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earner-centred classroom is an environment that creates and fosters independent students who are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ware of their learning process &amp;</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le to take control of their learning.</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earner-centred classroom must initially be created by the teacher and then accepted by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82880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paration phase is the time to lay the foundation or groundwork for creating a learner-centred classroom that is ready for strategies i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phase needs to embedded in the language instructional curriculum so that students see discussions about strategies and thought processes as a natural part of regular class activ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does not occur automatically, but rather must be worked at so that all participants support the environment and are supported by the environ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whose learning abilities and strategies are acknowledged and encouraged will embrace strategies instruction as a way to further their own independence as active think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aware are you of your own learning processes or strateg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 what conditions do you “learn” most successful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Learning Responsibiliti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ditionally, teachers shouldered much of the responsibilities for learning in the class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ever, in a learner-centred classroom, teachers and students share responsib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s role – model &amp; facilit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role – active participants who are ultimately responsible for their own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s need a clear understanding of class expectations from the beginning in order for the learner-centred classroom to be successfu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ssroom contracts and the use of learning anologies are two examples of how to start building a learner’s expectations toward independ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room Con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lassroom contract consists of an agreement between teacher and students or students and students regarding how each will contribute to and behave in the classro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acts are most useful if students provide the input on the agreement with guidance from the teach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you remember your best and favourite teac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qualities made them good teach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ould you characterize a good learn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8:57:51Z</dcterms:created>
  <dc:creator>Owner</dc:creator>
  <dc:description/>
  <dc:language>en-US</dc:language>
  <cp:lastModifiedBy>Buckrie</cp:lastModifiedBy>
  <dcterms:modified xsi:type="dcterms:W3CDTF">2011-12-15T07:33:44Z</dcterms:modified>
  <cp:revision>3</cp:revision>
  <dc:subject/>
  <dc:title>Learning How To Learn</dc:title>
</cp:coreProperties>
</file>